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ADE0-6962-4338-8CA1-C8F6BF5D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F7B6-1603-4853-90B0-F08F875E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89E9-F156-49E7-929B-450478BB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91CA-6834-48F3-BD76-99E754C3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53E9-9D8A-485C-995F-FEE86F61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E664-2817-4060-A6E0-3097E1CD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878C-6071-4C19-B8FF-E245A368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FACB-53C2-443F-922C-DB2FFA06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2103-5BAB-4B3F-8C6E-E7330AF2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B18E-292D-485F-B84B-4EAA043E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9B57-60B7-4329-B8B8-AD1A7DFF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C6CC-22C9-48AE-85B0-87A1BB66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6FE3-B298-4A5A-874F-B8C48881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D3B7-CCD3-491E-AEF3-FBAE3611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5B1B-BB69-4413-BB4B-AA9928A8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885A-3BCD-4802-85B4-622F84F4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9425-80DE-4416-BABE-A5451711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89DC-9484-40A0-9944-6C173990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328B-D6FC-4154-88B0-AB1C0C7C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9D88-D0AC-47DA-BE4D-44556F54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E968-5C63-478E-A551-14F0F3D7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1EB5-10A6-4062-BF37-580E6B97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A9E94-FE5F-40AB-9A4B-6792BE73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E90A-A0B2-402E-833E-FAB83EAA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F41D-F7CC-450D-AA55-0504F379FE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E1E4-6B11-433A-AF62-B02DC1C776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2326-91C0-4F84-A626-61215A73E2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3:02Z</dcterms:modified>
  <cp:revision>67</cp:revision>
  <dc:subject/>
  <dc:title>CAP Cryptographic Analysis Program</dc:title>
</cp:coreProperties>
</file>